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22AE-AEF6-477A-BDBE-C4500275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C84-9DE4-49A6-A373-1D7B514D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E89-592D-4EB5-B513-6F89BE31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0A0-6469-4A97-9669-AE8DEF1F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792C-661B-4FAB-A437-FED7671E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E25A-68C5-4274-9230-EFF72AD7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18D2-CF26-4498-BDCF-1D26C964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5BD2-ABE0-45F8-B478-24586704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C78C-5BE9-43A4-A60A-E6B4C524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28B-3661-4924-853C-6FA0A152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B727-24F1-4718-A3F1-904D1156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876D-D72A-414E-9391-D76F6BA2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D5F2-1A5A-44EE-9643-35CAD1FDB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Go in peac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refreshed and renew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 the eternal love of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3:08:04Z</dcterms:created>
  <dc:creator>Anon Anon</dc:creator>
  <dc:description/>
  <dc:language>en-US</dc:language>
  <cp:lastModifiedBy>Anon Anon</cp:lastModifiedBy>
  <dcterms:modified xsi:type="dcterms:W3CDTF">2005-08-09T05:27:48Z</dcterms:modified>
  <cp:revision>7</cp:revision>
  <dc:subject/>
  <dc:title>PowerPoint Presentation</dc:title>
</cp:coreProperties>
</file>